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16F53-3BEB-4A4B-9D1F-CD7F3A671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10972-0AA0-42B9-B457-7AFD1C0E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85328-3438-4B93-A454-8026EBE2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F81C0-F9C4-4D45-9DFF-6A2947BD0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3781-739A-4A17-A8A6-53BF5FF9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9C5F-84D3-492D-9066-50519787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EA96-5B67-45C1-A5F7-AF867621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867D-707A-4067-A5DF-9F2455D49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C2B4-9119-4B95-82C4-33ECC892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B34A-246F-4C01-B690-EDEB26CB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5AB8-2B4E-4077-8996-455764DB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E2F3-A812-4787-9F1A-4A142969C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6E86-5335-45DE-AE7D-DD7CD5231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agle.com/caglecards/main.asp?image=/news/VirginiaTechShootings/images/christo.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gle.com/caglecards/main.asp?image=/news/VirginiaTechShootings/images2/bish.gif"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pt.wikipedia.org/wiki/Cho_Seung-Hui" TargetMode="External"/><Relationship Id="rId4" Type="http://schemas.openxmlformats.org/officeDocument/2006/relationships/hyperlink" Target="http://pt.wikipedia.org/wiki/Cho_Seung-Hui" TargetMode="External"/><Relationship Id="rId5" Type="http://schemas.openxmlformats.org/officeDocument/2006/relationships/hyperlink" Target="http://pt.wikipedia.org/wiki/Cho_Seung-Hui"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40000" y="0"/>
            <a:ext cx="46213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1480" y="406800"/>
            <a:ext cx="8642520" cy="614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Gunman may have taken revenge for bullying</a:t>
            </a:r>
            <a:endParaRPr b="0" lang="en-US" sz="3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The gunman behind the Virginia Tech massacre killed two pupils who had attended his high school - where he was bullied, mocked over his shyness and told to "go back to Chin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o Seung-Hui was taunted over his race during his time at Westfield High Schoo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erience may have contributed to the mental instability, anger and persecution complex revealed in the killer's chilling videos, posted to an American broadcaster while Cho was in the midst of the worst campus shooting in US history. </a:t>
            </a:r>
            <a:endParaRPr b="0" lang="en-US" sz="2800" spc="-1" strike="noStrike">
              <a:solidFill>
                <a:srgbClr val="000000"/>
              </a:solidFill>
              <a:latin typeface="Arial"/>
            </a:endParaRPr>
          </a:p>
        </p:txBody>
      </p:sp>
      <p:pic>
        <p:nvPicPr>
          <p:cNvPr id="62" name="" descr=""/>
          <p:cNvPicPr/>
          <p:nvPr/>
        </p:nvPicPr>
        <p:blipFill>
          <a:blip r:embed="rId1"/>
          <a:stretch/>
        </p:blipFill>
        <p:spPr>
          <a:xfrm>
            <a:off x="-179280" y="5037120"/>
            <a:ext cx="190440" cy="1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692280"/>
            <a:ext cx="806580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Do you think bullying can be the cause of a massacre like the one that happened at Virginia Tech? Why/why n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What do you think of the University securit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What’s the responsibility of Cho’s famil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What do you think the Government should do in order to avoid other shootings in the futu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a:hlinkClick r:id="rId1"/>
          </p:cNvPr>
          <p:cNvPicPr/>
          <p:nvPr/>
        </p:nvPicPr>
        <p:blipFill>
          <a:blip r:embed="rId2"/>
          <a:stretch/>
        </p:blipFill>
        <p:spPr>
          <a:xfrm>
            <a:off x="2200320" y="0"/>
            <a:ext cx="47433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647640"/>
            <a:ext cx="9144000" cy="62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333360"/>
            <a:ext cx="8893080" cy="609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Verdana"/>
              </a:rPr>
              <a:t>True of Fals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f you open a bank account in Michigan, the bank will give you a gun.</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n Michigan, people don’t like hunting.</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ric and Dylan killed more than 20 students in Columbine High School.</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After the shooting on Columbine High School, students were prohibited of wearing baggy pants, because they could hide guns inside it.</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arilyn Manson was blamed for the shooting at Columbin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arilyn Manson defended himself saying that the causes of the shooting are violence in entertainment and gun control.</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ric and Dylan were considered very sociable and talkative.</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Before the massacre, Eric and Dylan were bowling.</a:t>
            </a:r>
            <a:endParaRPr b="0" lang="en-US" sz="2000" spc="-1" strike="noStrike">
              <a:solidFill>
                <a:srgbClr val="000000"/>
              </a:solidFill>
              <a:latin typeface="Arial"/>
            </a:endParaRPr>
          </a:p>
          <a:p>
            <a:pPr>
              <a:lnSpc>
                <a:spcPct val="100000"/>
              </a:lnSpc>
              <a:spcBef>
                <a:spcPts val="125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ore than 10,000 people are killed by guns in the US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ADD CAPTION AND CP/AP CREDIT"/>
          <p:cNvPicPr/>
          <p:nvPr/>
        </p:nvPicPr>
        <p:blipFill>
          <a:blip r:embed="rId1"/>
          <a:stretch/>
        </p:blipFill>
        <p:spPr>
          <a:xfrm>
            <a:off x="0" y="512640"/>
            <a:ext cx="9144000" cy="583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64000" y="333360"/>
            <a:ext cx="1857240" cy="2016000"/>
          </a:xfrm>
          <a:prstGeom prst="rect">
            <a:avLst/>
          </a:prstGeom>
          <a:ln w="0">
            <a:noFill/>
          </a:ln>
        </p:spPr>
      </p:pic>
      <p:pic>
        <p:nvPicPr>
          <p:cNvPr id="45" name="" descr=""/>
          <p:cNvPicPr/>
          <p:nvPr/>
        </p:nvPicPr>
        <p:blipFill>
          <a:blip r:embed="rId2"/>
          <a:stretch/>
        </p:blipFill>
        <p:spPr>
          <a:xfrm>
            <a:off x="6156360" y="404640"/>
            <a:ext cx="2016000" cy="1920960"/>
          </a:xfrm>
          <a:prstGeom prst="rect">
            <a:avLst/>
          </a:prstGeom>
          <a:ln w="0">
            <a:noFill/>
          </a:ln>
        </p:spPr>
      </p:pic>
      <p:pic>
        <p:nvPicPr>
          <p:cNvPr id="46" name="" descr=""/>
          <p:cNvPicPr/>
          <p:nvPr/>
        </p:nvPicPr>
        <p:blipFill>
          <a:blip r:embed="rId3"/>
          <a:stretch/>
        </p:blipFill>
        <p:spPr>
          <a:xfrm>
            <a:off x="539640" y="333360"/>
            <a:ext cx="2232000" cy="2189160"/>
          </a:xfrm>
          <a:prstGeom prst="rect">
            <a:avLst/>
          </a:prstGeom>
          <a:ln w="0">
            <a:noFill/>
          </a:ln>
        </p:spPr>
      </p:pic>
      <p:sp>
        <p:nvSpPr>
          <p:cNvPr id="47" name=""/>
          <p:cNvSpPr/>
          <p:nvPr/>
        </p:nvSpPr>
        <p:spPr>
          <a:xfrm>
            <a:off x="324000" y="2852280"/>
            <a:ext cx="8326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It Involves harmful actions against another persons body. Some examples are hitting, pinching, kicking. Interfering with another person's property. Some examples include stealing, damaging. </a:t>
            </a:r>
            <a:endParaRPr b="0" lang="en-US" sz="1800" spc="-1" strike="noStrike">
              <a:solidFill>
                <a:srgbClr val="000000"/>
              </a:solidFill>
              <a:latin typeface="Arial"/>
            </a:endParaRPr>
          </a:p>
        </p:txBody>
      </p:sp>
      <p:sp>
        <p:nvSpPr>
          <p:cNvPr id="48" name=""/>
          <p:cNvSpPr/>
          <p:nvPr/>
        </p:nvSpPr>
        <p:spPr>
          <a:xfrm>
            <a:off x="250920" y="3860640"/>
            <a:ext cx="860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b) It’s speaking to a person or about a person in a way that is unkind and hurtful to that person e.g. teasing, name calling, spreading rumours, whispering.</a:t>
            </a:r>
            <a:br>
              <a:rPr sz="1800"/>
            </a:br>
            <a:endParaRPr b="0" lang="en-US" sz="1800" spc="-1" strike="noStrike">
              <a:solidFill>
                <a:srgbClr val="000000"/>
              </a:solidFill>
              <a:latin typeface="Arial"/>
            </a:endParaRPr>
          </a:p>
        </p:txBody>
      </p:sp>
      <p:sp>
        <p:nvSpPr>
          <p:cNvPr id="49" name=""/>
          <p:cNvSpPr/>
          <p:nvPr/>
        </p:nvSpPr>
        <p:spPr>
          <a:xfrm>
            <a:off x="250920" y="4797360"/>
            <a:ext cx="8353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 It refers to all the types of behaviours that upset, exclude or embarrass another person e.g. leaving a person out of a game or activity on purpose, making rude gestures such as poking tongue, writing hate notes about a person that will be upsetting to that per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60"/>
            <a:ext cx="8881920" cy="428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Bullying also can happen </a:t>
            </a:r>
            <a:r>
              <a:rPr b="1" lang="en-US" sz="2500" spc="-1" strike="noStrike" u="sng">
                <a:solidFill>
                  <a:srgbClr val="009999"/>
                </a:solidFill>
                <a:uFillTx/>
                <a:latin typeface="Arial"/>
              </a:rPr>
              <a:t>on-line</a:t>
            </a:r>
            <a:r>
              <a:rPr b="1" lang="en-US" sz="2500" spc="-1" strike="noStrike">
                <a:solidFill>
                  <a:srgbClr val="009999"/>
                </a:solidFill>
                <a:latin typeface="Arial"/>
              </a:rPr>
              <a:t> or </a:t>
            </a:r>
            <a:r>
              <a:rPr b="1" lang="en-US" sz="2500" spc="-1" strike="noStrike" u="sng">
                <a:solidFill>
                  <a:srgbClr val="009999"/>
                </a:solidFill>
                <a:uFillTx/>
                <a:latin typeface="Arial"/>
              </a:rPr>
              <a:t>electronically</a:t>
            </a:r>
            <a:r>
              <a:rPr b="1" lang="en-US" sz="2500" spc="-1" strike="noStrike">
                <a:solidFill>
                  <a:srgbClr val="009999"/>
                </a:solidFill>
                <a:latin typeface="Arial"/>
              </a:rPr>
              <a:t>. Cyber bullying is when children or teens bully each other using the Internet, mobile phones or other cyber technology. This can include:</a:t>
            </a:r>
            <a:br>
              <a:rPr sz="2500"/>
            </a:b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Sending mean text, e-mail, or instant messages;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Posting nasty pictures or messages about others in blogs or on Web sites;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Arial"/>
              </a:rPr>
              <a:t>Using someone else's user name to spread rumors or lies about someone. </a:t>
            </a:r>
            <a:endParaRPr b="0" lang="en-US" sz="2500" spc="-1" strike="noStrike">
              <a:solidFill>
                <a:srgbClr val="000000"/>
              </a:solidFill>
              <a:latin typeface="Arial"/>
            </a:endParaRPr>
          </a:p>
          <a:p>
            <a:pPr algn="ct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51" name="" descr=""/>
          <p:cNvPicPr/>
          <p:nvPr/>
        </p:nvPicPr>
        <p:blipFill>
          <a:blip r:embed="rId1"/>
          <a:stretch/>
        </p:blipFill>
        <p:spPr>
          <a:xfrm>
            <a:off x="3348000" y="4457880"/>
            <a:ext cx="2181240" cy="24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rot="21460200">
            <a:off x="0" y="274320"/>
            <a:ext cx="9396360" cy="658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315280" cy="360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Group discussion:</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n your opinion, what causes bullying?</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ave you been bullied when you were a child? How was it?</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What do you think schools should do about bullying? </a:t>
            </a:r>
            <a:endParaRPr b="0" lang="en-US" sz="2400" spc="-1" strike="noStrike">
              <a:solidFill>
                <a:srgbClr val="000000"/>
              </a:solidFill>
              <a:latin typeface="Arial"/>
            </a:endParaRPr>
          </a:p>
          <a:p>
            <a:pPr marL="343080" indent="-343080">
              <a:spcBef>
                <a:spcPts val="15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s bullying common in your countr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0" y="3990960"/>
            <a:ext cx="3059280" cy="28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826920" y="981000"/>
          <a:ext cx="7561440" cy="5522760"/>
        </p:xfrm>
        <a:graphic>
          <a:graphicData uri="http://schemas.openxmlformats.org/drawingml/2006/table">
            <a:tbl>
              <a:tblPr/>
              <a:tblGrid>
                <a:gridCol w="7561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SOLU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All classrooms should have web cameras so parents can monitor their childre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Children who often misbehave should be told to leave the school foreve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of bullied children can sue the bully’s parent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Teachers should receive better training to understand bullies and stop them.</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of bullies should be named and shamed in local newspaper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Parents must pay a fine for all incidents of their child’s bullying.</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Well-behaved children can suggest punishments for badly behaved childre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Teachers who cannot control their classrooms should be fire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Bullies should be put in special children’s pris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
          <p:cNvSpPr/>
          <p:nvPr/>
        </p:nvSpPr>
        <p:spPr>
          <a:xfrm>
            <a:off x="611280" y="333360"/>
            <a:ext cx="82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What are the PROS and CONS of the solutions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40000" y="4334040"/>
            <a:ext cx="4667400" cy="2523960"/>
          </a:xfrm>
          <a:prstGeom prst="rect">
            <a:avLst/>
          </a:prstGeom>
          <a:ln w="0">
            <a:noFill/>
          </a:ln>
        </p:spPr>
      </p:pic>
      <p:pic>
        <p:nvPicPr>
          <p:cNvPr id="58" name="" descr=""/>
          <p:cNvPicPr/>
          <p:nvPr/>
        </p:nvPicPr>
        <p:blipFill>
          <a:blip r:embed="rId2"/>
          <a:stretch/>
        </p:blipFill>
        <p:spPr>
          <a:xfrm>
            <a:off x="1979640" y="0"/>
            <a:ext cx="5286240" cy="3524400"/>
          </a:xfrm>
          <a:prstGeom prst="rect">
            <a:avLst/>
          </a:prstGeom>
          <a:ln w="0">
            <a:noFill/>
          </a:ln>
        </p:spPr>
      </p:pic>
      <p:sp>
        <p:nvSpPr>
          <p:cNvPr id="59" name=""/>
          <p:cNvSpPr/>
          <p:nvPr/>
        </p:nvSpPr>
        <p:spPr>
          <a:xfrm>
            <a:off x="395280" y="3645000"/>
            <a:ext cx="8497800" cy="288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020000" y="6429960"/>
            <a:ext cx="914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Cho</a:t>
            </a:r>
            <a:r>
              <a:rPr b="0" lang="en-US" sz="2000" spc="-1" strike="noStrike" u="sng">
                <a:solidFill>
                  <a:srgbClr val="009999"/>
                </a:solidFill>
                <a:uFillTx/>
                <a:latin typeface="Arial"/>
                <a:hlinkClick r:id="rId4"/>
              </a:rPr>
              <a:t> </a:t>
            </a:r>
            <a:r>
              <a:rPr b="0" lang="en-US" sz="2000" spc="-1" strike="noStrike" u="sng">
                <a:solidFill>
                  <a:srgbClr val="009999"/>
                </a:solidFill>
                <a:uFillTx/>
                <a:latin typeface="Arial"/>
                <a:hlinkClick r:id="rId5"/>
              </a:rPr>
              <a:t>Seung-Hu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5:50:42Z</dcterms:created>
  <dc:creator>WinXP</dc:creator>
  <dc:description/>
  <dc:language>en-US</dc:language>
  <cp:lastModifiedBy> </cp:lastModifiedBy>
  <dcterms:modified xsi:type="dcterms:W3CDTF">2009-06-11T08:14:35Z</dcterms:modified>
  <cp:revision>9</cp:revision>
  <dc:subject/>
  <dc:title>Slide 1</dc:title>
</cp:coreProperties>
</file>